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click.wav" ContentType="audio/x-wav"/>
  <Override PartName="/ppt/media/image16.jpeg" ContentType="image/jpeg"/>
  <Override PartName="/ppt/media/laser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wind.wav" ContentType="audio/x-wav"/>
  <Override PartName="/ppt/media/image32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push.wav" ContentType="audio/x-wav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F3FA-D872-45D1-B12D-82BA7929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5A35-AA07-4B59-A6D7-343F4393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617-21C3-4AE4-89C7-B3F043F8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B06-8192-41CF-8A8E-63544CFF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ADC-CACF-4E2E-A570-6EC012EA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EB1-8F87-4BF2-98EA-2F74546E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7B3-5AE4-4A4F-A1F0-163EF3D2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F6C3-0342-4107-ADEB-A5AD42B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FFBC-1545-448C-9AAD-D375366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7E15-F6D3-4FC4-9BD0-C058069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ABC5-543A-4D36-A3FD-EFCC4351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C72A-ACED-4218-9AF5-21404438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741-97CB-43B6-BB2A-F7EB5FA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777-339C-4EAD-A667-ED21399E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9B0-ED6B-4084-941F-80904F2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578F-3EB9-45B6-B506-B9FD0CB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B99-791B-4DEC-B6D5-144FBEE0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C047-B9AC-4342-98E4-692DB1A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D9F3-083A-4447-BFEA-8A14FCD4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7D7B-E014-49E1-B891-7F40A239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AB6B-9CBA-466F-B468-8E71C0AE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59B0-0E0E-4B12-B7C8-EE0BBAB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B4CA-3258-4B5F-AF50-15552ED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8133-CDD8-436C-A257-1184B78B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244-BE85-4314-9439-C052D000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F603-9F3A-4758-B4E4-EAA61BE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BA31-2831-4A74-B819-B78CD1B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A5D4-4C71-4CBE-B18B-6D65E0E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EF14-F892-4CE2-91F4-D118FF9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F3B8-3EE1-4A89-AC0E-9AA8D87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9D90-F5F4-4103-AC87-DCB062A6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7E9F-A4FB-492A-AF33-755C98A7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7C8D-6DD6-4303-9930-7F89FCC0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6809-3A07-4FE4-ACE8-7D60413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8DCE-8C9F-4A45-8126-55550C41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D33-4CBC-4A26-ADA6-7FA0D8F1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EB3B-53AE-4FF2-89D0-BFD39090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F4C2-43F0-44F1-8D1C-78000714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8537-EF4E-431E-A761-CCF64C8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ECB1-B944-4F3A-8258-F24887A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2FD0-DCE2-46DA-A993-5501FC3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6B4C-6B68-4017-96C6-D7A310E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630E-084E-472F-B2C1-0776B85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F6E9-BE73-4311-9342-CDEF479E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F511-2B15-440E-AAD1-6FAA3CD3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A47-4C0D-477E-9216-7C83824E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BAC-7753-48F4-BFB7-3ED6002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D57-9171-4484-B29B-57C5F2E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60C-6288-4AE6-B516-EF24D44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2DA-AEC0-46FD-BC9E-12758612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633F-668E-4B6B-A8F0-ADAED55702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FB65-79D9-4EEF-8FE2-BE7263C77C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75C0-6DF0-489D-B6A9-A795055595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C653-C170-4102-B13D-FE0001816C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r Isabella Trin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ayu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desayun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 Panqueques         Los Huevos con Brindis                        El Cereal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smiley-face-pancake"/>
          <p:cNvPicPr/>
          <p:nvPr/>
        </p:nvPicPr>
        <p:blipFill>
          <a:blip r:embed="rId1"/>
          <a:stretch/>
        </p:blipFill>
        <p:spPr>
          <a:xfrm>
            <a:off x="762120" y="228600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stockphoto_10739207-scrambled-eggs-with-toast"/>
          <p:cNvPicPr/>
          <p:nvPr/>
        </p:nvPicPr>
        <p:blipFill>
          <a:blip r:embed="rId2"/>
          <a:stretch/>
        </p:blipFill>
        <p:spPr>
          <a:xfrm>
            <a:off x="34290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1103059147bowl-cereal"/>
          <p:cNvPicPr/>
          <p:nvPr/>
        </p:nvPicPr>
        <p:blipFill>
          <a:blip r:embed="rId3"/>
          <a:stretch/>
        </p:blipFill>
        <p:spPr>
          <a:xfrm>
            <a:off x="6324480" y="2362320"/>
            <a:ext cx="1743120" cy="143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orange-juice"/>
          <p:cNvPicPr/>
          <p:nvPr/>
        </p:nvPicPr>
        <p:blipFill>
          <a:blip r:embed="rId4"/>
          <a:stretch/>
        </p:blipFill>
        <p:spPr>
          <a:xfrm>
            <a:off x="3733920" y="4267080"/>
            <a:ext cx="136836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7"/>
          <p:cNvSpPr/>
          <p:nvPr/>
        </p:nvSpPr>
        <p:spPr>
          <a:xfrm>
            <a:off x="3429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9" descr="ANd9GcQdCm4IU8hIsuMRTxLh9DaEaICyG0Zo4DDCJUBTCi6A6wLNrfLlJA"/>
          <p:cNvPicPr/>
          <p:nvPr/>
        </p:nvPicPr>
        <p:blipFill>
          <a:blip r:embed="rId5"/>
          <a:stretch/>
        </p:blipFill>
        <p:spPr>
          <a:xfrm>
            <a:off x="1143000" y="4267080"/>
            <a:ext cx="132408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0"/>
          <p:cNvSpPr/>
          <p:nvPr/>
        </p:nvSpPr>
        <p:spPr>
          <a:xfrm>
            <a:off x="106668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ANd9GcTwiS47JceEO3MbC3HvJmeSovPJB8ZWMe_qIG1k2C5noEcjg5J4gw"/>
          <p:cNvPicPr/>
          <p:nvPr/>
        </p:nvPicPr>
        <p:blipFill>
          <a:blip r:embed="rId6"/>
          <a:stretch/>
        </p:blipFill>
        <p:spPr>
          <a:xfrm>
            <a:off x="6477120" y="4267080"/>
            <a:ext cx="142704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3"/>
          <p:cNvSpPr/>
          <p:nvPr/>
        </p:nvSpPr>
        <p:spPr>
          <a:xfrm>
            <a:off x="64771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7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Almuerz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almuerz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 Ensalada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HICKEN%20AND%20ALMOND%20SALAD"/>
          <p:cNvPicPr/>
          <p:nvPr/>
        </p:nvPicPr>
        <p:blipFill>
          <a:blip r:embed="rId1"/>
          <a:stretch/>
        </p:blipFill>
        <p:spPr>
          <a:xfrm>
            <a:off x="685800" y="2362320"/>
            <a:ext cx="1752480" cy="128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ock-photo-deliciously-fresh-ham-and-cheese-sandwich-with-crisp-potato-chips-59035903"/>
          <p:cNvPicPr/>
          <p:nvPr/>
        </p:nvPicPr>
        <p:blipFill>
          <a:blip r:embed="rId2"/>
          <a:stretch/>
        </p:blipFill>
        <p:spPr>
          <a:xfrm>
            <a:off x="3276720" y="2362320"/>
            <a:ext cx="1752480" cy="1252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3"/>
          <p:cNvSpPr/>
          <p:nvPr/>
        </p:nvSpPr>
        <p:spPr>
          <a:xfrm>
            <a:off x="29718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amón y ques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taco%20bell%20image"/>
          <p:cNvPicPr/>
          <p:nvPr/>
        </p:nvPicPr>
        <p:blipFill>
          <a:blip r:embed="rId3"/>
          <a:stretch/>
        </p:blipFill>
        <p:spPr>
          <a:xfrm>
            <a:off x="6477120" y="23623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6"/>
          <p:cNvSpPr/>
          <p:nvPr/>
        </p:nvSpPr>
        <p:spPr>
          <a:xfrm>
            <a:off x="6324480" y="3733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8" descr="SpriteCan"/>
          <p:cNvPicPr/>
          <p:nvPr/>
        </p:nvPicPr>
        <p:blipFill>
          <a:blip r:embed="rId4"/>
          <a:stretch/>
        </p:blipFill>
        <p:spPr>
          <a:xfrm>
            <a:off x="990720" y="4267080"/>
            <a:ext cx="963360" cy="1752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9"/>
          <p:cNvSpPr/>
          <p:nvPr/>
        </p:nvSpPr>
        <p:spPr>
          <a:xfrm>
            <a:off x="9144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4" descr="planter_punch"/>
          <p:cNvPicPr/>
          <p:nvPr/>
        </p:nvPicPr>
        <p:blipFill>
          <a:blip r:embed="rId5"/>
          <a:stretch/>
        </p:blipFill>
        <p:spPr>
          <a:xfrm>
            <a:off x="6705720" y="4114800"/>
            <a:ext cx="87444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5"/>
          <p:cNvSpPr/>
          <p:nvPr/>
        </p:nvSpPr>
        <p:spPr>
          <a:xfrm>
            <a:off x="66294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ñetazo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7" descr="40-Mango-Smoothie"/>
          <p:cNvPicPr/>
          <p:nvPr/>
        </p:nvPicPr>
        <p:blipFill>
          <a:blip r:embed="rId6"/>
          <a:stretch/>
        </p:blipFill>
        <p:spPr>
          <a:xfrm>
            <a:off x="3200400" y="4419720"/>
            <a:ext cx="179064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8"/>
          <p:cNvSpPr/>
          <p:nvPr/>
        </p:nvSpPr>
        <p:spPr>
          <a:xfrm>
            <a:off x="297180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lamero de 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7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 Ce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la cena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5" descr="istockphoto_15969987-juicy-steak-mashed-potatoes-and-vegetables"/>
          <p:cNvPicPr/>
          <p:nvPr/>
        </p:nvPicPr>
        <p:blipFill>
          <a:blip r:embed="rId1"/>
          <a:stretch/>
        </p:blipFill>
        <p:spPr>
          <a:xfrm>
            <a:off x="685800" y="2286000"/>
            <a:ext cx="2057400" cy="1376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35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iftec con papas puree y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grilled-chicken"/>
          <p:cNvPicPr/>
          <p:nvPr/>
        </p:nvPicPr>
        <p:blipFill>
          <a:blip r:embed="rId2"/>
          <a:stretch/>
        </p:blipFill>
        <p:spPr>
          <a:xfrm>
            <a:off x="3581280" y="228600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42900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ollo asad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seafood-boil-pic"/>
          <p:cNvPicPr/>
          <p:nvPr/>
        </p:nvPicPr>
        <p:blipFill>
          <a:blip r:embed="rId3"/>
          <a:stretch/>
        </p:blipFill>
        <p:spPr>
          <a:xfrm>
            <a:off x="6477120" y="2286000"/>
            <a:ext cx="1752480" cy="13190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4"/>
          <p:cNvSpPr/>
          <p:nvPr/>
        </p:nvSpPr>
        <p:spPr>
          <a:xfrm>
            <a:off x="6248520" y="3733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a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lemonade-juice"/>
          <p:cNvPicPr/>
          <p:nvPr/>
        </p:nvPicPr>
        <p:blipFill>
          <a:blip r:embed="rId4"/>
          <a:stretch/>
        </p:blipFill>
        <p:spPr>
          <a:xfrm>
            <a:off x="685800" y="4343400"/>
            <a:ext cx="1828800" cy="1627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7"/>
          <p:cNvSpPr/>
          <p:nvPr/>
        </p:nvSpPr>
        <p:spPr>
          <a:xfrm>
            <a:off x="7621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http://www.eventhireblog.com/wp-content/uploads/2010/07/long-island-iced-tea.jpg"/>
          <p:cNvPicPr/>
          <p:nvPr/>
        </p:nvPicPr>
        <p:blipFill>
          <a:blip r:embed="rId5"/>
          <a:stretch/>
        </p:blipFill>
        <p:spPr>
          <a:xfrm>
            <a:off x="3809880" y="4343400"/>
            <a:ext cx="1219320" cy="1625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4"/>
          <p:cNvSpPr/>
          <p:nvPr/>
        </p:nvSpPr>
        <p:spPr>
          <a:xfrm>
            <a:off x="36576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http://www.wichitafallstx.gov/images/pages/N1257/Glass%20of%20Water.gif"/>
          <p:cNvPicPr/>
          <p:nvPr/>
        </p:nvPicPr>
        <p:blipFill>
          <a:blip r:embed="rId6"/>
          <a:stretch/>
        </p:blipFill>
        <p:spPr>
          <a:xfrm>
            <a:off x="6781680" y="4267080"/>
            <a:ext cx="1067040" cy="17067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6"/>
          <p:cNvSpPr/>
          <p:nvPr/>
        </p:nvSpPr>
        <p:spPr>
          <a:xfrm>
            <a:off x="66294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  <p:sndAc>
      <p:stSnd>
        <p:snd r:embed="rId7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 Salud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200 Calories of Grapes"/>
          <p:cNvPicPr/>
          <p:nvPr/>
        </p:nvPicPr>
        <p:blipFill>
          <a:blip r:embed="rId1"/>
          <a:stretch/>
        </p:blipFill>
        <p:spPr>
          <a:xfrm>
            <a:off x="609480" y="2362320"/>
            <a:ext cx="1998720" cy="1423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1066680" y="15238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609480" y="380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0 Calories of Apples"/>
          <p:cNvPicPr/>
          <p:nvPr/>
        </p:nvPicPr>
        <p:blipFill>
          <a:blip r:embed="rId2"/>
          <a:stretch/>
        </p:blipFill>
        <p:spPr>
          <a:xfrm>
            <a:off x="3429000" y="236232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33526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www.gardensnob.com/pictures/cucumber.jpg"/>
          <p:cNvPicPr/>
          <p:nvPr/>
        </p:nvPicPr>
        <p:blipFill>
          <a:blip r:embed="rId3"/>
          <a:stretch/>
        </p:blipFill>
        <p:spPr>
          <a:xfrm>
            <a:off x="609480" y="4373640"/>
            <a:ext cx="2057400" cy="1430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533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200 Calories of Celery"/>
          <p:cNvPicPr/>
          <p:nvPr/>
        </p:nvPicPr>
        <p:blipFill>
          <a:blip r:embed="rId4"/>
          <a:stretch/>
        </p:blipFill>
        <p:spPr>
          <a:xfrm>
            <a:off x="34290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34290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200 Calories of Baby Carrots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60958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Zana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http://scienceblogs.com/gregladen/images/government_issue_grapefruit_photograph.jpg"/>
          <p:cNvPicPr/>
          <p:nvPr/>
        </p:nvPicPr>
        <p:blipFill>
          <a:blip r:embed="rId6"/>
          <a:stretch/>
        </p:blipFill>
        <p:spPr>
          <a:xfrm>
            <a:off x="6400800" y="2362320"/>
            <a:ext cx="1303200" cy="1465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6"/>
          <p:cNvSpPr/>
          <p:nvPr/>
        </p:nvSpPr>
        <p:spPr>
          <a:xfrm>
            <a:off x="61722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u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7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200 Calories of Gummy Bears"/>
          <p:cNvPicPr/>
          <p:nvPr/>
        </p:nvPicPr>
        <p:blipFill>
          <a:blip r:embed="rId1"/>
          <a:stretch/>
        </p:blipFill>
        <p:spPr>
          <a:xfrm>
            <a:off x="91440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1440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200 Calories of Potato Chips"/>
          <p:cNvPicPr/>
          <p:nvPr/>
        </p:nvPicPr>
        <p:blipFill>
          <a:blip r:embed="rId2"/>
          <a:stretch/>
        </p:blipFill>
        <p:spPr>
          <a:xfrm>
            <a:off x="3581280" y="2286000"/>
            <a:ext cx="192564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914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5812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200 Calories of Salted Pretzels"/>
          <p:cNvPicPr/>
          <p:nvPr/>
        </p:nvPicPr>
        <p:blipFill>
          <a:blip r:embed="rId3"/>
          <a:stretch/>
        </p:blipFill>
        <p:spPr>
          <a:xfrm>
            <a:off x="609588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6095880" y="3733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Rosqu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200 Calories of Marshmallow Treat"/>
          <p:cNvPicPr/>
          <p:nvPr/>
        </p:nvPicPr>
        <p:blipFill>
          <a:blip r:embed="rId4"/>
          <a:stretch/>
        </p:blipFill>
        <p:spPr>
          <a:xfrm>
            <a:off x="91440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838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eníamos tr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200 Calories of M&amp;M Candy"/>
          <p:cNvPicPr/>
          <p:nvPr/>
        </p:nvPicPr>
        <p:blipFill>
          <a:blip r:embed="rId5"/>
          <a:stretch/>
        </p:blipFill>
        <p:spPr>
          <a:xfrm>
            <a:off x="358128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2"/>
          <p:cNvSpPr/>
          <p:nvPr/>
        </p:nvSpPr>
        <p:spPr>
          <a:xfrm>
            <a:off x="365760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Dul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http://t0.gstatic.com/images?q=tbn:ANd9GcSUETlODWhS1erNXsAh7F7yNb0I2drfmWWkGn9p2vXI6jGW2ePjLw4JqbdcTw"/>
          <p:cNvPicPr/>
          <p:nvPr/>
        </p:nvPicPr>
        <p:blipFill>
          <a:blip r:embed="rId6"/>
          <a:stretch/>
        </p:blipFill>
        <p:spPr>
          <a:xfrm>
            <a:off x="6324480" y="4191120"/>
            <a:ext cx="1828800" cy="1374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617220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z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ier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5" descr="http://1.bp.blogspot.com/_yW9-KbWuxtA/Ss1IBFGNQpI/AAAAAAAABEE/5iNL5vmjmxw/s320/red-velvet-cake.jpg"/>
          <p:cNvPicPr/>
          <p:nvPr/>
        </p:nvPicPr>
        <p:blipFill>
          <a:blip r:embed="rId1"/>
          <a:stretch/>
        </p:blipFill>
        <p:spPr>
          <a:xfrm>
            <a:off x="1066680" y="22860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106668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l desierto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066680" y="3809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http://t1.gstatic.com/images?q=tbn:ANd9GcSNB6zFl0egHAxdlajQS0Zh9ND8F-T0Mcui1u41zWdswda_dVDG"/>
          <p:cNvPicPr/>
          <p:nvPr/>
        </p:nvPicPr>
        <p:blipFill>
          <a:blip r:embed="rId2"/>
          <a:stretch/>
        </p:blipFill>
        <p:spPr>
          <a:xfrm>
            <a:off x="3657600" y="2286000"/>
            <a:ext cx="1676520" cy="1463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358128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http://t2.gstatic.com/images?q=tbn:ANd9GcQf08gKmZVwSBNsGPYt-X2kk2-tgEtiVPOoY2sH0VPbRROwIRsE"/>
          <p:cNvPicPr/>
          <p:nvPr/>
        </p:nvPicPr>
        <p:blipFill>
          <a:blip r:embed="rId3"/>
          <a:stretch/>
        </p:blipFill>
        <p:spPr>
          <a:xfrm>
            <a:off x="6477120" y="2286000"/>
            <a:ext cx="1450800" cy="15318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9"/>
          <p:cNvSpPr/>
          <p:nvPr/>
        </p:nvSpPr>
        <p:spPr>
          <a:xfrm>
            <a:off x="64008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uec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1" descr="http://www.karolskitchen.com/wp-content/uploads/2011/01/chocolate-covered-strawberries-recipe-6.jpeg"/>
          <p:cNvPicPr/>
          <p:nvPr/>
        </p:nvPicPr>
        <p:blipFill>
          <a:blip r:embed="rId4"/>
          <a:stretch/>
        </p:blipFill>
        <p:spPr>
          <a:xfrm>
            <a:off x="990720" y="4343400"/>
            <a:ext cx="1676160" cy="1427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1"/>
          <p:cNvSpPr/>
          <p:nvPr/>
        </p:nvSpPr>
        <p:spPr>
          <a:xfrm>
            <a:off x="8380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sas cubiertas con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http://t3.gstatic.com/images?q=tbn:ANd9GcSMPHQ1mNti9WImryeSpTTvvibtPPq3Hbpqpq617VJjkXCBI-pE"/>
          <p:cNvPicPr/>
          <p:nvPr/>
        </p:nvPicPr>
        <p:blipFill>
          <a:blip r:embed="rId5"/>
          <a:stretch/>
        </p:blipFill>
        <p:spPr>
          <a:xfrm>
            <a:off x="3657600" y="4343400"/>
            <a:ext cx="1600200" cy="1469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3"/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http://t0.gstatic.com/images?q=tbn:ANd9GcQdg-gukHTaN5K6Ju4WfLSbANX4yo7puFh82dU_lX3ByEkeT8AbEQ"/>
          <p:cNvPicPr/>
          <p:nvPr/>
        </p:nvPicPr>
        <p:blipFill>
          <a:blip r:embed="rId6"/>
          <a:stretch/>
        </p:blipFill>
        <p:spPr>
          <a:xfrm>
            <a:off x="6477120" y="4419720"/>
            <a:ext cx="1523880" cy="141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5"/>
          <p:cNvSpPr/>
          <p:nvPr/>
        </p:nvSpPr>
        <p:spPr>
          <a:xfrm>
            <a:off x="64008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73080" y="-593640"/>
            <a:ext cx="1238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23Z</dcterms:created>
  <dc:creator>Isabella</dc:creator>
  <dc:description/>
  <dc:language>en-US</dc:language>
  <cp:lastModifiedBy>Dante</cp:lastModifiedBy>
  <dcterms:modified xsi:type="dcterms:W3CDTF">2011-04-15T10:39:35Z</dcterms:modified>
  <cp:revision>32</cp:revision>
  <dc:subject/>
  <dc:title>Las Comidas</dc:title>
</cp:coreProperties>
</file>